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440" y="428580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440" y="428580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24720" y="428580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16400" y="205704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47720" y="205704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440" y="428580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16400" y="428580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47720" y="428580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59984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28580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24720" y="428580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4720" y="205704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28580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97520" y="642312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Wide Latin"/>
              </a:rPr>
              <a:t>S T E P W I 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9200" y="6470640"/>
            <a:ext cx="2720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1999  Robin La Fontaine,  Monsell EDM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530840" y="457200"/>
            <a:ext cx="1443240" cy="755640"/>
            <a:chOff x="7530840" y="457200"/>
            <a:chExt cx="1443240" cy="755640"/>
          </a:xfrm>
        </p:grpSpPr>
        <p:sp>
          <p:nvSpPr>
            <p:cNvPr id="5" name=""/>
            <p:cNvSpPr/>
            <p:nvPr/>
          </p:nvSpPr>
          <p:spPr>
            <a:xfrm>
              <a:off x="7530840" y="457200"/>
              <a:ext cx="1443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279f"/>
                  </a:solidFill>
                  <a:latin typeface="Arial"/>
                </a:rPr>
                <a:t>Monsell ED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8029440" y="768240"/>
              <a:ext cx="444600" cy="444600"/>
              <a:chOff x="8029440" y="768240"/>
              <a:chExt cx="444600" cy="444600"/>
            </a:xfrm>
          </p:grpSpPr>
          <p:sp>
            <p:nvSpPr>
              <p:cNvPr id="7" name=""/>
              <p:cNvSpPr/>
              <p:nvPr/>
            </p:nvSpPr>
            <p:spPr>
              <a:xfrm>
                <a:off x="8029440" y="768240"/>
                <a:ext cx="292320" cy="292320"/>
              </a:xfrm>
              <a:prstGeom prst="ellipse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182080" y="768240"/>
                <a:ext cx="291960" cy="292320"/>
              </a:xfrm>
              <a:prstGeom prst="ellipse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05760" y="92088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"/>
          <p:cNvSpPr/>
          <p:nvPr/>
        </p:nvSpPr>
        <p:spPr>
          <a:xfrm>
            <a:off x="469800" y="1841400"/>
            <a:ext cx="8356680" cy="4546800"/>
          </a:xfrm>
          <a:prstGeom prst="rect">
            <a:avLst/>
          </a:prstGeom>
          <a:noFill/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291160" y="646128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28D-498A-484E-AB52-0D0C7ABDC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39200" y="141912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rit 25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697880" y="1212840"/>
            <a:ext cx="1216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Arial"/>
              </a:rPr>
              <a:t>Engineering Data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330120" y="152280"/>
          <a:ext cx="1193760" cy="11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52280"/>
                    <a:ext cx="11937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NWI: “XML representation of EXPRESS-driven data”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n La Fontai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sell EDM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bin@monsell.co.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PWISE Project: Implementations from Express models by transformation: http://www.stepwis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format for EXPRESS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can you do with it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sues for EXPRESS in X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format for EXPRESS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sues for EXPRESS data in 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Early binding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format for a specific model, e.g. special tag for each entit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ghtly 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you can control changes as the model changes and maintain upward compatibility if this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actic correctness guarantees some constraints ar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for sharing amongst gener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tool has to deal with many formats (unless we use Architecture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Issues for EXPRESS data in XML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important is file si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ctness is importa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o we handle changes in the 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should use the features of XML syntax to help upward compatib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bout current changes to Part 2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XML format for Express data should be capable of representing data from any Express model, including multiple schem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XML Express data file should allow data from one or more repositories (data instance set)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ML representation of Express-driven data is a first step in bringing together the strengths of the documentation world and the STEP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groups have something to learn from this exerc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provide new opportunities but is not a magic bullet to solve all existing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ould be seen in the light of work on deeper integration of the two aspects of documents an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together two worlds with different 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ress with strong data structure an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/SGML with file format and l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ke Express mo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EXPRESS and its data in 'document' format and they will be more likely to understan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TAX ::= RELIG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YNTAX&gt;RELIGION&lt;/SYNTA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type demonstrations made at Bad Aibling l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EXPRESS in XML:</a:t>
            </a:r>
            <a:br>
              <a:rPr sz="3200"/>
            </a:b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What can you do with it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standard XML par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PRES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PRES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www browsers to look at models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SL (style sheet language) allows views of data, it is a simple process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will not replace a dedicated CAD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ment with linking data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le EXPRESS data in document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XML format for EXPRESS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cover all of the EXPRESS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not be as human readable as EXPRESS now is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can be displayed or printed as 'normal' EXPRESS syntax using 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ed at Bad Aibling using RivCome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form the basis for an annotated EXPRESS model, perha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What will it look like?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133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TITY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x_coord, y_coord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809880"/>
            <a:ext cx="419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entity name="poin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attribute name="x_coord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REAL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attribute name="y_coord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REAL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lt;/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20574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733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ML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257800"/>
            <a:ext cx="22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ample from paper by Daniel Rivers-Moore, Riv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Issues for EXPRESS in XML (1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or less than EXP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 forward to EXPRESS-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ress in XML should keep strictly to the Express 1 language standar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Issues for EXPRESS in XML (2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MATH-ML or simil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isting XML formats such as MATH-ML already provide a syntax for handling mathematical functions and procedures. Should we use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s of using MATH-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one has already solved the problem in a standard w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tibility with other standards in thi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s of using MATH-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will not be *exactly* the same as existing Ex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may have a different style to the rest of th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ress in XML should use MATH-ML where applicab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XML format for EXPRESS data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 replacement for Part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verbose than Part 21, but it will compress we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def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‘generic’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te binding’, for any Express model, similar to Part 21 in approa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ed’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rly binding’, for a single Expr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63de8"/>
                </a:solidFill>
                <a:latin typeface="Arial"/>
              </a:rPr>
              <a:t>Late binding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arest to existing Part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, versa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basic format and set of ‘tags’  for an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for generic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code that can ‘process’ one model can process them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 syntax does not reflect the semantic rules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actic correctness guarantees very little in terms of 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4:31:53Z</dcterms:created>
  <dc:creator>Robin La Fontaine</dc:creator>
  <dc:description/>
  <dc:language>en-US</dc:language>
  <cp:lastModifiedBy>Nigel Shaw</cp:lastModifiedBy>
  <cp:lastPrinted>1999-01-22T10:40:36Z</cp:lastPrinted>
  <dcterms:modified xsi:type="dcterms:W3CDTF">1999-01-25T22:38:32Z</dcterms:modified>
  <cp:revision>24</cp:revision>
  <dc:subject/>
  <dc:title>Review presentation</dc:title>
</cp:coreProperties>
</file>