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81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128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128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81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kgrd_6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591240"/>
            <a:ext cx="23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© 2000, Progress Software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80010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34080" y="6553080"/>
            <a:ext cx="73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21BA35C7-DBF5-439E-8E8C-78D2688F002D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ogo" descr=""/>
          <p:cNvPicPr/>
          <p:nvPr/>
        </p:nvPicPr>
        <p:blipFill>
          <a:blip r:embed="rId2"/>
          <a:stretch/>
        </p:blipFill>
        <p:spPr>
          <a:xfrm>
            <a:off x="5791320" y="5638680"/>
            <a:ext cx="2286000" cy="609840"/>
          </a:xfrm>
          <a:prstGeom prst="rect">
            <a:avLst/>
          </a:prstGeom>
          <a:ln w="0">
            <a:noFill/>
          </a:ln>
        </p:spPr>
      </p:pic>
      <p:pic>
        <p:nvPicPr>
          <p:cNvPr id="44" name="emb_6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09480"/>
            <a:ext cx="0" cy="312444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505320"/>
            <a:ext cx="59436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0948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4</a:t>
            </a:r>
            <a:r>
              <a:rPr b="0" lang="en-US" sz="4800" spc="-1" strike="noStrike" baseline="30000">
                <a:solidFill>
                  <a:srgbClr val="003366"/>
                </a:solidFill>
                <a:latin typeface="Arial Black"/>
              </a:rPr>
              <a:t>th</a:t>
            </a: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 Generation XML Application Development 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David Clea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Principal Software Engineer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Progress Software Cor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581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rging XML and Busines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3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 Black"/>
              </a:rPr>
              <a:t>rd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Generation XML App Developmen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d by introduction of DTD/Schema compiler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un JSR-31 XML Data Binding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IBM XML BeanMaker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rees developer from knowing XM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dvantages/Disadvantag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You work in your native data mode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You no longer need to be intimate with your XML Instance data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is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ew classes for each vocabulary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Bogs down on complex vocabularie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till requires lots of new code with little reus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4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Generation XML App Developmen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ools and Infrastructure that transform the XML to the Business Applic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oesn’t require major changes to existing Business Application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hree Exampl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Microsoft BizTalk Orchestration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CharterIS XMuLator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rogress SmartB2B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dvantages/Disadvantag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everages investment in current business application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ittle or no coding to support new vocabularie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Quickly bring new vocabularies into the fold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is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Relative immaturity of the tool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Microsoft Biztalk Orchestra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visual modeling tool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XLANG - XML vocabulary that defines semantics of business processe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inds model to COM interfac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a runtime engine that executes the modeled business proces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parates business process from implement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oes not automatically generate document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BTO Modeling Tool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16" name="BizOrchestr1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59896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BTO Modeling Tool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18" name="BizOrchestr2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931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BTO Document Mappe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38592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biztalkfig06" descr="Figure 6 Document Map in BizTalk Mapper"/>
          <p:cNvPicPr/>
          <p:nvPr/>
        </p:nvPicPr>
        <p:blipFill>
          <a:blip r:embed="rId1"/>
          <a:stretch/>
        </p:blipFill>
        <p:spPr>
          <a:xfrm>
            <a:off x="914400" y="1447920"/>
            <a:ext cx="68580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aterIS XMuLato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visual modeling tool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Uses a UML like notation to create business process mode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lso creates a business information model which represents your XM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You import schema definitions and map them  to your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Generates XSLT stylesheets to convert between any two vocabulari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XMuLator Modeling Tool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axonomy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blem Defini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4 Generations of XML Application Developmen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XML Schema Mapping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monstr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XMuLator Schema Model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navision tree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59436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Progress SmartB2B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upports XML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ast call WD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nnotates a schema using non-native attribut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rovides information on mapping instance data to Smart Data Objects and Smart Business Object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Progress SmartB2B Architectur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523880"/>
          <a:ext cx="73915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3915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XML Schema Mapping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Uses non-native attribut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ttributes defined outside of the XML Schema namespac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ded directly to the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Does not effect the ability to validat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ttributes are ignored by conforming schema processor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XML Schema Specifica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tion 4 of XML Schema Part 1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54920"/>
            <a:ext cx="888048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spects of the type definitions for the elements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sections are constant across them 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m allow attributes qualified with namespace URIs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the XML Schema namespace itself: these correspon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hing in corresponding schema compon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teps For Annotating a Schema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600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dd new namespace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2362320"/>
            <a:ext cx="83055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chem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rgetNamespace="http://www.example.com/perso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ns:xsd="http://www.w3.org/1999/XMLSchema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ns:map="http://www.example.com/map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teps For Annotating a Schema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6002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dd mapping info to element and attribute 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743200"/>
            <a:ext cx="7848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xsd:element name="FirstName" type="xsd:string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:class="com.example.perso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:name="FirstNam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:type="property" minOccurs="1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teps For Processing an XML Documen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arse and Validate XML Instanc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trieve Namespace of Root Nod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trieve Local Schema for Namespac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Get Mapping Info out of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Walk XML Instance Populating Native Object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14840" y="2886840"/>
            <a:ext cx="555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aveat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pping Multiple Elements to a Single Complex Typ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pping User Defined Simple Typ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pping Union Typ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pping “Complex” Simple Typ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Problem Defini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ost of doing business decreases by using B2B E-Commerce technologi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Visio saw cost of processing PO go from $113 to $6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ustomers will demand you process their orders electronically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Your competitors will leverage these productivity increas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logo" descr=""/>
          <p:cNvPicPr/>
          <p:nvPr/>
        </p:nvPicPr>
        <p:blipFill>
          <a:blip r:embed="rId1"/>
          <a:stretch/>
        </p:blipFill>
        <p:spPr>
          <a:xfrm>
            <a:off x="2133720" y="2549520"/>
            <a:ext cx="4647960" cy="1239840"/>
          </a:xfrm>
          <a:prstGeom prst="rect">
            <a:avLst/>
          </a:prstGeom>
          <a:ln w="0">
            <a:noFill/>
          </a:ln>
        </p:spPr>
      </p:pic>
      <p:pic>
        <p:nvPicPr>
          <p:cNvPr id="152" name="emb_ctr_6f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Market Trend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Jupiter Research predicts B2B online trading to be $6.3 trillion in 2005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42% of domestic B2B trad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DC predicts e-commerce procurement applications market to be $5.3 billion in 2003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68% of application portfolio spending is on infrastructure integrating business app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Business Realiti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sinesses invested heavily in ERP and other business applications in the 90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Replacing these applications is not a solution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ust support multiple vocabularies from a variety of sourc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 Black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Generation XML App Developmen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Given a DTD, process an XML instance based on i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Lack of free or cheap XML processor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oll your own parser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dvantages/Disadvantag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??????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is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1 off solution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Time spent writing parser instead of glu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Generation XML App Developmen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d by introduction of free/cheap parsers and standard API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DOM and SAX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oncentrate on solving problem instead of building tool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dvantages/Disadvantag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everage knowledge of API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Validation support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is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Working in XML Data Mode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Code is still tied to a specific vocabulary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4:17:33Z</dcterms:created>
  <dc:creator>David Cleary</dc:creator>
  <dc:description/>
  <dc:language>en-US</dc:language>
  <cp:lastModifiedBy>David Cleary</cp:lastModifiedBy>
  <cp:lastPrinted>1999-09-24T14:02:08Z</cp:lastPrinted>
  <dcterms:modified xsi:type="dcterms:W3CDTF">2000-11-14T18:17:44Z</dcterms:modified>
  <cp:revision>7</cp:revision>
  <dc:subject/>
  <dc:title>Title -- Initial Caps, Arial Black, 32pt</dc:title>
</cp:coreProperties>
</file>