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E03C-F7DB-413B-B894-E5DD4BFE6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form of ASN.1 value notation was created in Gene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year ago and is currently concluding ballot this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mat of this value notation is based on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 allows ASN.1 values to be transferred or display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variety of textual  of binary formats. (PER BER HTML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 text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s can leverage browsers for XML display and still  have efficient binary transfer in 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gain, the highlighted XML markup indicate name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een derived form the ASN.1 definition of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KDF2-PR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a value of type NoIV (NULL) has no cont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not be represented with a start and end tag p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SN.1 value can appear in an ASN.1 module. So in 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, XML 1.0 markup has become valid ASN.1 n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as a simple schema for XML values provides a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pecifying XML values abstractly, independent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s as transfer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ASN.1 abstract values can be transferred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ose XML markup format, or in a compact binary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owser Application may receive either XML markup, HTML, or compact binary encoded data. For the later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ser Application may need to pass XML on to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, perhaps with one or more stylesheets to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ting for different dev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ireless Application may need to receive compact b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s (perhaps PER colored with ECN). But it may ne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de some values into markup for display to a human us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DF Application may only be capable of receiving 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, such as  table input for a spreadsheet or SQL data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mple format can be rendered from generated XM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and a stylesheet, perhaps to form a plain text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or data base query, or to assist in program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and debu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 may also be used for ASN.1 message conversion from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into many popular file formats. This can be of bene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reating documentation for standards wri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cal abstract values specified using a binary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X9.73 and the X9 standards it references, will be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human readable XML format, but afforded the same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ecurity provided by X9.7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posed standard wil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an XML 1.0 markup representation for th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loads defined in X9.73 including AuthenticatedDat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, SignedData, EnvelopedData,  DigestedDat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rypted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an XML 1.0 markup representation for the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in other X9 standards and referenced in X9.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X9.84 BiometricSyntax, X9.68 DomainCertific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X9.69 Constructive Key Management ext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confidentiality, integrity, origin authenticat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repudiation support for XML aware application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message encryption, digital signature, MAC, and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Provide standard tags and structures that can be lo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extensive searching of an XML docum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upport multiple signatures, per-signer authent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ributes, and countersign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Allow selective field protection to be implemen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which combine multiple protected messages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site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· Restrict cryptographic operations to only th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ptographic algorithms approved for use by the fina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s indu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A PKCS #7 --&gt; IETF SMIME   --&gt;  X9.73 C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73 references X9.68 and X9.84 and CKM as defin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 X9.69-1999:  Framework for Key Management Ext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same ASN.1 definitions for XCMS as used in X9.7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hat the same abstract values are used for both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nonical ASN.1 encodings. Both senders and receiv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 able to construct identical encodings of value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pport cryptographically enhanced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SignedData and the other cryptographic type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X9.84 are the same types defined in X9.73. These w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ed in X9.84 so that X9.73 and X9.84 could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essed as separate standards in different X9F wor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84 is the first US national biometrics security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BiometricObject is a "patron format" in the NIST/IT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Biometrics Exchange File Format (CBEFF), a  proposed US standard that is expected to be progressed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sage as an international standard under ISO/IEC JTC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in X9.68 show that this compact binary format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digital certificates that support all of the requir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.509 extensions specified in ISO 15782-2, a profile of X.5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inancial Services industry, in less than 150 by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akes the X9.68 format ideal for resource constrai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n Consulting will soon announce a tool kit that imp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BEFF formats and provides an XML enoding fo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type X9.84. A first version will provide suppor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for raw objects, and subsequent releases of the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dd support for the cryptographic types in X9.8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may be encoded using the Packed Encod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SN.1 in 29 octets and stored on a secure card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ct binary form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handed to an application, the canonical PER en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verted to the XER representation shown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ormat might be processed with one style sheet to 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for a display, another style sheet to create a data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, and still another to create a log record for an au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il arch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OASIS Technical Committee, XML Common Biomet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 (XCBF) has recently been formed to define a si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schema to represent the patron formats in the NI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EFF stand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, the Organization for the Advancement of Struc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 Standards, is a  non-profit,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rtium that creates interoperable industry specif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public standards such as XML and SGML, as well 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that are related to structured information processing, such as ASN.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echnical Committee will define a common set of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 encodings for the patron formats defined in CBEFF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Biometric Exchange File Format (NISTIR 6529, available at http://www.nist.gov/cbeff). These formats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specified in accordance with the ASN.1 schema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ANS X9.84:2000 Biometrics Information Management and Security For The Financial Services Industry© (available from the ANSI electronic bookstore at http://www.ansi.org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on Biometric Exchange File Format defines a common set of data elements necessary to support multiple biometric technologies and to promote interoperability of biometric-based application programs and systems by allowing for biometric data exchange. CBEFF describes a set of "required" and "optional" data fields, a "domain of use", and "CBEFF Patron" formats that utilize some combination of the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ron formats specify encoding of the data elements and 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(non-common) data elements.  The two defined CBEFF Patron formats are the BioAPI Biometric Identification Record (BIR) format specified in the BioAPI Consortium BioAP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 Version 1.0 and the X9.84:2000 Biometric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. But all of the encoding formats defined in CBEFF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84 are binary encodings, making their use in XM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pplications limited or diffic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XML schema that can carry the values i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EFF standard elements will promote the ability to ex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metric information, between users of binary patron formats, and with XML-aware applications and systems.  As new patron formats are added to CBEFF in future revisions, a common XML schema based on the X9.84 definitions should make it possible to exchange data with applications implemented using earlier versions of CBEFF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, underlying type definitions will allow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validated and exchanged without ambiguity.  The ex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values specified in binary encodings will be us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representations of these values.  This featur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will serve to promote interoperable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nonical variant of the XML Encoding Rules (CXER)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nputs suitable for cryptographic enhancemen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ML representations of X9.84 biometric objects, b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hat standard are expected to be processed sol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inary.  All processing and security requirement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is TC will be harmonized with standardization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formats of CMS messages undertaken by ANSI X9F working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list of deliverables and projected 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document defining the ASN.1/XML CBEFF sche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 introduction and overview of canonical DER, PER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ER, and the processing and security requirement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creation and verification of all cryptographic 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d  in X9.84, in the form of XML encoded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working module including ASN.1 XML Markup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tion examples of X9.84 biometric types defined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BEFF standard, along with the underlying ASN.1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example DER, PER and XER encodings of value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9.84 biometric types and equivalent BIR encod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Published documentation of new CBEFF patron format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come standard during the period of this work,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n anticipated smart card patr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Initial drafts of all deliverables: May 30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raft version of working module: Novemb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raft version of example binary encoding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values: March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Draft final versions of all remaining deliver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inal versions of any new CBEFF formats: Jul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inal versions of all deliverables: Nov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achieve maximum interoperability betwee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of various standards organizations, these XCB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iverables may depend on work being done by ANSI X9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groups and the new INCITS M1 Biometrics TC, so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ion of these deliverables may be affected by d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any) in the work of these groups. Though the sche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s into November 2003, it is hoped that this work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concluded no later than May 20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in which the TC will conduct business: English. Speakers of other languages are encouraged to particip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, time, and place of first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day March 18 - Conference call at 7:00 pm.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UBL attendees will meet for the call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el Barcelona Universal, Barcelona,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ed meeting schedule for the first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Monday March 18, 2002, 7:00 pm, Barcelona, S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Thursday, May 16, 2002, Somerset, NJ U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Thursday, August 22, 2002, Net Meeting/conferenc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Tuesday, November 19, 2002, Geneva,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ust prior to the ITU-T SG17 meet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Further dates for 2003 to be annou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of 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lip H. Griffin, Griffin Consulting, &lt;phil.griffin@ASN.1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as a simple schema for XML values provides a m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specifying XML values abstractly, independent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s as transfer i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ASN.1 abstract values can be transferred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ose XML markup format, or in a compact binary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is a schema, which allows users to define the g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messages. SEQUENCE, SET, CHOIC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data types (INTEGER, BIT STRING, etc.) allow user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distinct sets  of values for message compon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constraints allow users to further restrict the set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a given type to a valid subset of values. (Y or N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le or female) or (positive integer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N.1 notation (X.680-series) is separate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 rules (X.690-series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formats include BER, DER, PER and 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an be augmented by Encoding Control Notation (EC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definitions do not depend on a particular se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coding rules, unless specified by us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pecify ABSTRACT values - the various encoding r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y the TRANSFER syntax of the abstrac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X.509 and PKIX restrict their Certificate encodings to 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BER wra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X9.73 &amp; SMIME use BER mainly, with small pockets of 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 3GPP and many other wireless protocols use 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- The XML Value Notation provides a mea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ing ASN.1 values using XML.  Thus, an ASN.1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also specifies the structure and content of an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.  This makes ASN.1 a simple schema language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type definition can be represented using mar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type has a default markup notation. This def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 notation uses the ASN.1 defined type name and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ed identifiers shown highlight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only the ASN.1 type definition of AnyName, tools 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ends of a wire can communicate values of type Any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same default XML markup t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ly, they can display the XML value &lt;AnyName&gt;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ends of the wire, and transfer (or store) the value in 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BER encodes in 19 bytes (14 PER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XML markup requires 96 bytes -  85 bytes just for t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at the markup does not cont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hint of the tags in the ASN.1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information on the data types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hint that the middle initial is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any restrictions on the size of the middle ini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is additional information must be carried in the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transfer (as in XML) or understood one time only (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) and assumed for all subsequent transf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ore complex example using a common security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the timestamp protocols defined by the IETF, X9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IEC JTC 1/SC 27 Security Techniques organ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gain, the highlighted text in the schema definition w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used to form XML markup in a value of PKIStatus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, PKIStatusInfo is an outer level type and it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ears in the markup. PKIFreeText is another outer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used in the markup along with the identifi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us, statusString and failInf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ers for the named integer value  rejectio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med bit value timeNotAvailable are  also used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't tell from only looking at the markup value that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&lt;status&gt;" must be an integer greater than or equal to ze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ot even tell in markup whether a value of PKI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integer or a character string. This information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ood only from looking at the ASN.1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mes PKIStatusInfo, PKIFreeText, status, statusSt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fo, rejection and timeNotAvailable from the ASN.1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 are all used as markup ta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N.1 identifier "rejection" is a value of type PKIStat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se definition is based on the builtin ASN.1 type IN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SN.1 identifier " timeNotAvailable" is a value of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IFailuerInfo, whose definition is based on the builtin ASN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BIT ST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dentifiers, rejection and timeNotAvailable, carry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antic information to a human reader than their integ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as a rule, ASN.1 identifiers are used in the default mark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ever possible. When no identifier exists, as with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level type "PKIFreeText", then the user defined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is used as the default markup ta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RECA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notation is a schema for the structure/types o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No need to use XML DTDs or Schemas to leverage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ASN.1 coder tools enforce the ASN.1 schema.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 need to validate the XML markup or the value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against another XML-based sche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value can be transferred in both text or bin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One definition supports both wireless/smartcard and WW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eed for multiple, different schemas which may h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operable solu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value can be represented using mark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This can be processed to create HTML, various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s and ordinary text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ASN.1 type definition has a default markup form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dentifier names are used when possible, then type n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.693 sta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There is more than one set of encoding rules that can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d to values of ASN.1 types.  This Recommendation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tional Standard defines two sets of encoding rul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Extensible Markup Language (XML).  These are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ML Encoding Rules (XER) for ASN.1, and both produce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document compliant to W3C XML 1.0.  The first se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Basic XML Encoding Rules.  The second set i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nonical XML Encoding Rules because there is only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 of encoding an ASN.1 value using these encoding r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anonical encoding rules are generally used for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security-related features such as digital signatures.)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-space means one or more of the following charac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IZONTAL TABULATION (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FEED (10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AGE RETURN (13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CE (32)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mbers in parentheses are the decimal value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IEC 10646-1 characters.  The number and choi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s that constitutes "white-space" is an encoder'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 using Basic X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use 9 of X.693 specifies all of the restrictions on 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to produce Canonical X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a defined type OID based on the buil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N.1 type OBJECT IDENTIFIER is assu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otted form of values of ASN.1 type OBJECT IDENT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same string format used in the Lightweight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Protocol (LDAP) progressed by the IET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AlgorithmIdentifier has been used in many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ations developed since the mid 1980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example, it is represented as a parameterized typ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se parameters are a set of valid algorithms.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is composed of an algorithm identifier valu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parameters, which are often a value of type NUL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indicate that there are no initialization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d by a give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D02-4015-44CA-8923-D30ABC1C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787-804C-4609-A90B-33A96F5B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D9A1-C815-4912-8602-09286248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FBF-33AF-4369-BA67-A56B2C28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743-963A-49D0-AA3E-144F0AF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4AB-F889-485F-A658-46159BDB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E689-6C6B-4F19-BFA6-F7A1181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008-C3BD-4865-A1C7-44961CAA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FC4-7CF4-44FE-AF12-56A40F6C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59B-E7BD-4349-AAF0-D4100E0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19D-D424-4862-8925-0DCCD7F5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B88-E014-47C2-968D-675D6B8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601-C701-414F-8F94-C009707F4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tu.int/ITU-T/asn1/database/index.html" TargetMode="External"/><Relationship Id="rId2" Type="http://schemas.openxmlformats.org/officeDocument/2006/relationships/hyperlink" Target="http://www.ossnokalva.com/asn1/booksintro.html" TargetMode="External"/><Relationship Id="rId3" Type="http://schemas.openxmlformats.org/officeDocument/2006/relationships/hyperlink" Target="http://www.ossnokalva.com/products/syntax1.html" TargetMode="External"/><Relationship Id="rId4" Type="http://schemas.openxmlformats.org/officeDocument/2006/relationships/hyperlink" Target="http://www.itu.int/ITU-T/studygroups/com17/languages/index.html" TargetMode="External"/><Relationship Id="rId5" Type="http://schemas.openxmlformats.org/officeDocument/2006/relationships/hyperlink" Target="http://www.itu.int/ITU-T/studygroups/com17/languages/index.html" TargetMode="External"/><Relationship Id="rId6" Type="http://schemas.openxmlformats.org/officeDocument/2006/relationships/hyperlink" Target="http://asn1.elibel.tm.fr/xml/" TargetMode="Externa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nonical XML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coding Rules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XER</a:t>
            </a:r>
            <a:r>
              <a:rPr b="0" lang="en-US" sz="4800" spc="-1" strike="noStrike">
                <a:solidFill>
                  <a:srgbClr val="4d4d4d"/>
                </a:solidFill>
                <a:latin typeface="Times New Roman"/>
              </a:rPr>
              <a:t>)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 Secure Message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39621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n ASN.1 Schema for XML Mar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© 2002 Griffin Consulting,  All Rights Reserv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n Consulting   1625 Glenwood Avenue   Raleigh,  North Carolina  27608 - 2319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 - 919 - 29 1- 0019   phil.griffin@ASN-1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47B-8AA5-4B74-84F8-5B2F47C09F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XML AlgorithmIdentifier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 value of the pseudorandom function HMAC-SHA-1 can be specified 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XML 1.0 markup using the ASN.1 XML Value Notation as the ASN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valu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lgid-hmacWithSHA1 ::=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PBKDF2-PRF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algorithm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.2.840.113549.2.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/algorithm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parameters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/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NoIV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/parameter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&lt;/PBKDF2-PRF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is complete assignment statement can be placed in an ASN.1 modu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1272-C02E-4D80-B27D-7291B01DDD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N.1 XML Benefit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 single schema for all valu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inary and text encodings are all based on ASN.1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Eliminates multiple schema mappin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Provides an efficient schema for XML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SN.1 &lt;=&gt; XML communic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N.1 applications can send and receive XML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fficient ASN.1 transfer, Encoding Control Notation</a:t>
            </a: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0A31-7F4C-48E2-9664-F44F98F1DA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N.1 / XML Benefit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352680"/>
            <a:ext cx="15238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N.1 -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4952880"/>
            <a:ext cx="1371600" cy="762120"/>
          </a:xfrm>
          <a:prstGeom prst="rect">
            <a:avLst/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981080"/>
            <a:ext cx="13716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438280" y="228600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39625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352680"/>
            <a:ext cx="1371600" cy="76212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733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20574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M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45720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c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nary Encoding</a:t>
            </a:r>
            <a:br>
              <a:rPr sz="2000"/>
            </a:br>
            <a:r>
              <a:rPr b="1" lang="en-US" sz="2000" spc="-1" strike="noStrike">
                <a:solidFill>
                  <a:srgbClr val="4d4d4d"/>
                </a:solidFill>
                <a:latin typeface="Times New Roman"/>
              </a:rPr>
              <a:t>+ EC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3526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in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57913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 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00E-331B-4415-9F5D-A7E5AD3D3B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work item was proposed to ANSI X9 (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ww.x9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January 200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Cryptographic Message Syntax (XCM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the ASN.1 schema specifi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ML Encoding Rules (XER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ecurity products will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f working together regardless of whether they are ASN.1-based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nly of exchanging information using XML 1.0 markup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will be able to securely transmit information in a co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format across a network and use XML 1.0 markup to represent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information locally - or securely transfer the XML marku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57A-5788-4120-9192-E4DCF1C303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 Syntax is tightly aligned with the IE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ME standard.  But X9.73 extends SMIME by providing constru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management (CKM) services, and support for ANS X9.84 biometr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and ANS X9.68 compact digital certificat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f the cryptographic types supported in X9.73 will be available u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CMS, including the familiar RSA PKCS #7 type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gn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velop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crypt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gest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s well as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9.73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uthenticated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ryptographic processing requirements will be specified for canon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1.0 markup based on CXER using the X9.73 ASN.1 schema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763-0C36-49B8-B241-B61CF8D252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 Syntax references the following 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and relies on the ASN.1 definitions specified in these standard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 X9.84 : 2001, Biometrics Information Management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Security For the Financial Services Industry 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 X9.68 : 2001  Digital Certificates For Mobile/Wireless A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Hi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action Volume Financial System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Part 2:  Domain Certific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ntax 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XCMS new work item, the cryptographic processing of  XML 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up values based on the ASN.1 schemas from all three of the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 will be address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06E-2CC9-474B-9D02-E7E35C0E1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SI X9 XML CMS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ample XER encoding of a value of ASN.1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ometric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X9.84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.1.1 Examples: Reduced Biometric Hea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iometricObj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iometricHeader&gt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version&gt;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hv1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lt;/version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iometricHeader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iometricDat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0102030405060708090A0B0C0D0E0F01020304050607080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iometricData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iometricObjec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value XER encode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ctet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DER,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ing P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DE6-4EBD-4872-B7A5-32CF337D00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ASIS XCBF TC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ML Common Biometric Format Technical Committee  (XCBF 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oasis-open.org/committees/xcbf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TC recently form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A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 for the Advanc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Structured Information Standards, a non-profit, international consortium th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interoperable XML industry standards   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oasis-open.org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XCBF TC Goal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a common XML schema f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STIR 6529CBEF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tron forma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www.nist.gov/cbeff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based on the ASN.1 types define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S X9.84:2000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ttp://www.ansi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processing &amp; security requirements for XER based on the XML ver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9.73 Cryptographic Message Syntax (CMS) ©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http://www.x9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C47-3AD9-4CFF-82E4-16E294E19E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ree ASN.1 Link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itu.int/ITU-T/asn1/database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ossnokalva.com/asn1/booksintro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tax Check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http://www.ossnokalva.com/products/syntax1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mmend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www.itu.int/ITU-T/studygroups/com17/languages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2002 Draf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4d4d4d"/>
                </a:solidFill>
                <a:latin typeface="Times New Roman"/>
              </a:rPr>
              <a:t>Host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ftp://ties.itu.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login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s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password: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tation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N.1 /XM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asn1.elibel.tm.fr/xml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7AC-B9CC-49B1-AFE5-CCDDFA065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illip H. Griff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iffin Consul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25 Glenwood Aven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yes Barton at Fiv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leigh, North Carolina  27608 - 2319  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  919  291  00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: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1  919  832  73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: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hil.griffin@ASN-1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: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:/ASN-1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254-944B-4FA1-ADA9-4B4004F134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verview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ASN.1 is a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hema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for encoded val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ype definitions are based on the X.680-series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ypes describe the expected general structure of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Each builtin type defines a class, a set of distinct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traints restrict a class and the validity of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5AF-430C-4BAA-BFE6-74B183697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verview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Encoded ASN.1 values are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Times New Roman"/>
              </a:rPr>
              <a:t>binary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inary encodings based on the X.690-series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ext encoded as plain, markup, or formatted 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N.1 Basic Value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SN.1 XML Value No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X.693 XML Encoding Rules (XER) + Stylesh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394-6517-4A82-BD0D-63330133F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br>
              <a:rPr sz="20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xample type and val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yNam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:= [APPLICATION 1] SEQUE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givenName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VisibleStr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[0] UTF8String (SIZE(1))  OPTIONA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amilyName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A5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AnyName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givenName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sz="1800" spc="-1" strike="noStrike">
                <a:solidFill>
                  <a:srgbClr val="ff0000"/>
                </a:solidFill>
                <a:latin typeface="Courier New"/>
              </a:rPr>
              <a:t>Hubert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&lt;/givenNa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sz="1800" spc="-1" strike="noStrike">
                <a:solidFill>
                  <a:srgbClr val="ff0000"/>
                </a:solidFill>
                <a:latin typeface="Courier New"/>
              </a:rPr>
              <a:t>L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&lt;/initial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familyName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i="1" sz="1800" spc="-1" strike="noStrike">
                <a:solidFill>
                  <a:srgbClr val="ff0000"/>
                </a:solidFill>
                <a:latin typeface="Courier New"/>
              </a:rPr>
              <a:t>Owen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&lt;/familyNa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&lt;/AnyName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7FE-F6EE-4D77-B80B-4B50D9E69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Status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::= SEQUE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IStatu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Free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OPTIONA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il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PKIFailureInfo 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IStatus ::= INTEGER {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je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2) } (0..MA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Free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::= SEQUENCE SIZE(1..MAX) OF UTF8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KIFailureInfo ::= BIT STRING {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NotAvaila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(14)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4F8B-28AF-4158-97FD-8612FDE31E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s a rule ..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ever possible,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used as the default markup ta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the user defin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me is us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Status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rejection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status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String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KIFreeTex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Your request has been rejec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KIFreeText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statusString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il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</a:rPr>
              <a:t>timeNotAvailble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/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&lt;/failInf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PKIStatusInfo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85D-75B0-4D34-8AB5-52FA4D43C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anonical X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XER and Canonical XER are defined in the standar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O/IEC 8825-4 | ITU-T Rec. X.693  ASN.1 Encoding Rules -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XML Encoding Rules (XER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Canonical XML Encoding Rules (CXER), the same ASN.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Value Notation example can be encoded one and only one way as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long string containing n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white-space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s outside of dat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&lt;PKIStatusInfo&gt;&lt;status&gt;&l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jection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&gt;&lt;/status&gt;&lt;statusS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ng&gt;&lt;PKIFreeText&g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Your request has been rejected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&lt;/PKIF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Text&gt;&lt;/statusString&gt;&lt;failInfo&gt;&lt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imeNotAvailble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/&gt;&lt;/fa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nfo&gt;&lt;/PKIStatusInfo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8C4-12AD-4080-A67B-2E72F5F3F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XML Object Identifi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ASN.1 object identifiers are used in many security specifications 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unambiguously identify algorithms and processing methods.  In the IE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RFC 2898 PKCS #5: Password-Based Cryptography Specification,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 identifi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d-hmacWithSHA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identifies the HMAC-SHA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seudorandom function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d-hmacWithSH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OI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::=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digestAlgorithm 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is OID can also be represented using XML 1.0 markup and XER 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id-hmacWithSHA1 ::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OID&gt; </a:t>
            </a:r>
            <a:r>
              <a:rPr b="1" i="1" lang="en-US" sz="1800" spc="-1" strike="noStrike">
                <a:solidFill>
                  <a:srgbClr val="ff0000"/>
                </a:solidFill>
                <a:latin typeface="Courier New"/>
                <a:ea typeface="MS Mincho"/>
              </a:rPr>
              <a:t>1.2.840.113549.2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&lt;/OID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The parameters associated with this algorithm are a value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655-CFB9-45A8-BD59-96D7DD9105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CXER for Secure Messag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XML AlgorithmIdentifier 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RFC 2898 PKCS #5 defines a password based key derivation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pseudorandom function using the following ASN.1 schem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BKDF2-PR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::= AlgorithmIdentifier {{PBKDF2-PRFs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lgorithmIdentifier { AID:IOSet } ::= SEQUE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lgorithm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ID.&amp;id({IOSet}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parameters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ID.&amp;Type({IOSet}{@algorithm}) OP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AID ::= TYPE-IDENTIFIER --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O/IEC 8824-2:1998, Annex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NoIV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MS Mincho"/>
              </a:rPr>
              <a:t>::= NULL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MS Mincho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7880" y="6400800"/>
            <a:ext cx="321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Copyright © 2002 Griffin Consulting, All Rights Reserved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10480" y="64771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36A6-1B35-47D0-AECF-DFD2A041C4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Phillip H. Griffin</dc:creator>
  <dc:description>Version: Thursday February 14, 2002</dc:description>
  <dc:language>en-US</dc:language>
  <cp:lastModifiedBy>Phil Griffin</cp:lastModifiedBy>
  <cp:lastPrinted>2002-02-14T20:59:07Z</cp:lastPrinted>
  <dcterms:modified xsi:type="dcterms:W3CDTF">2002-02-14T21:10:18Z</dcterms:modified>
  <cp:revision>180</cp:revision>
  <dc:subject>An ASN.1 Schema for XML Markup</dc:subject>
  <dc:title>Canonical XML Encoding Rules (CXER) for Secure Messages</dc:title>
</cp:coreProperties>
</file>