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B6A-60F1-416D-B9B4-0A6D2196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671-48C4-49A5-9A42-EA186494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46A-D4E8-4347-B7AB-8082CAD9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0EC-C0BF-40C7-8513-7BF5AF09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CC87-2DDF-44BC-929E-9EAD37AA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E254-2672-485F-BE9C-5132C742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08EB-801C-46AA-AF27-B1A5A7E3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3D2D-129B-410C-B0F5-A6BEE33E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9059-18E1-4BA8-99E0-D80A113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AB0B-EA06-4069-8C79-269BC971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79AC-0BC9-4B7D-9633-6AE5180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7EB-F553-450D-BC06-8F990574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E5F4-D425-453F-9079-4F8D9223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BC90-9203-4C7D-9A96-75E701B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8FA4-9C50-475F-8F00-67CC678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140B-655C-4898-9DF7-DFBE8CBA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F4AD-EF27-441E-8255-03704EB2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017-613C-444B-B9D9-3C4C0DA7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331-8936-48F0-BEBD-C6DD9279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2C2-9F8D-4DBE-9BED-5A27BB09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156-AD1E-4AC8-9347-856E43C9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F90-5F75-4D17-93D3-27F90F22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019-D5A5-47D7-87B5-95CCA05A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132-4F84-4456-A659-E16B6DAC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54CA-0E6B-4B00-8AC5-AFFCB3FE6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5C87-5C34-482B-B3EA-62CD5759F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Justice XML Standards Initiat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3523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.S. Department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fice of Justice Pro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iefing to XML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ptember 19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Objectiv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e sharing of justice information and integration of justice information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“ground floor” standar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 and assist justice and public safety information systems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ther other efforts to share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jor XML Initiativ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minal Histories (Rap She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NIST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BI, States, NLETS,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Enforcement Intel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onal Information Shar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Court Fi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XML and NCS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ap Sheet Standard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ly, each state and the FBI had their own rap shee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ipients of rap sheets from more than one source (e.g., in the case of a multi-state offender) received multiple reports in multiple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ized Rap Sheet, when fully implemented, will provide a single, complete response in a consisten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aw Enforcement Intelligence Regional Information Sharing Syste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S XML Specifications were created to allow dissimilar systems to communicate criminal intelligenc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lectronic Court Fi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urt Filing Specification provides a mechanism for attorneys and other users of the court systems to electronically transmit and file court documents in active c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arting Point, June 200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specifications for three significantly different business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 Sheet Standard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lligence XML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rt Filing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group had developed an XML specification tailored to their own business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group approached development and implementation of  XML specifications diffe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rticipa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ice of Justice Programs, U.S. Dept. of Jus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Infrastructure and Standards Working Group (ISW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.S. Dept. of Commerce: NIST and N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Center for State Courts (NCS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Enforcement Intelligence Regional Information Sharing Systems (RI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Task Force on Rap Sheets (FBI, States, NLETS and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nciliation, Part 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principles for XML implementations and reconciliation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an reconciliation of the three XML implem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nciliation (personName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981080"/>
          <a:ext cx="8077320" cy="457200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p Shee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rt Fil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concile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subjec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Pers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subjec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person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ll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l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me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ut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st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me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f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ll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ign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meAli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nciliation, Parts 2 an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d reconciliatio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licts among the three specifications have been elimin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by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of lessons learned during reconcil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ML standard development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ML Justice Data Dictiona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28 data ele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stice and Public Safety Constituenc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riminal Justi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law enforcement, courts, corrections, prosecutors, public defenders, probation and pa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blic Safe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criminal justice, fire and emergency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blic Safety Rel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education, social services, transportation, welfare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Reconciliation Re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ciples for Development of XML Sp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s for Development of XML Sp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delines used in the reconciliatio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g N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s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ormat (UTC-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ptable Abbreviations and Acrony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 XML Data Dictionary (128 Elem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itutionalize Standards Process (Including Budg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Justice Standards Regist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 Reconciled XML Specs (3) for Inclusion in Reg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new XML Candidates for th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 XML Data Dictionary into Standards Regist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 Standards Activities into OJP/Global Web Site (www.it.ojp.go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the XML Standards Program (Outre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 to Support the development of information sharing standards with emphasis on 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 and disseminate the XML Reconciliation Report (lessons learn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stice Standards Regist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b P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of Justice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.S. Department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Technology Initi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it.ojp.usd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:  Test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word:  Test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ta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r: Pat McCre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02) 616-0532; mccrearj@ojp.usdoj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ior Policy Advisor:  Bob Gree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02) 305-9317; greevesr@ojp.usdoj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Expert:  D.J. Atkinson/N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03) 497-5281; dj@its.bldrdoc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lobal Criminal Justice Information Net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Advisor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 of Group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tional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reach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cy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frastructure/Standards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rastructure/Standards Working Group (ISW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and technical partic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 for managing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policy recommendations to the Justice Department (Office of Justice Progra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ed for Justice Standar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tioner de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of overlapping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demand for information sh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of archite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 for XM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wer of “Babb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onse to the Ne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rage GLOBAL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it practitioner de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advantage of “Time is Righ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king practitioner 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ing and staff resource avai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 together willing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leadership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ustice community will respond to a voluntary program rich in content before they will respond to man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responsibility of the Justice Department is to promote information sharing, promote appropriate standards development, and facilitate coordination of efforts -- NOT to develop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 efforts are driven by business problems, not technical or national age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ndards Proce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, development and/or stag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ss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ca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ed notifica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enanc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racteristics of Standards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 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in 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ical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cen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resi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 (business) ori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gible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20:55:37Z</dcterms:created>
  <dc:creator>schillc</dc:creator>
  <dc:description/>
  <dc:language>en-US</dc:language>
  <cp:lastModifiedBy>Owen Ambur</cp:lastModifiedBy>
  <cp:lastPrinted>2001-09-18T18:50:46Z</cp:lastPrinted>
  <dcterms:modified xsi:type="dcterms:W3CDTF">2001-09-19T20:13:52Z</dcterms:modified>
  <cp:revision>41</cp:revision>
  <dc:subject/>
  <dc:title>XML for Global Justice Network</dc:title>
</cp:coreProperties>
</file>